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F45-F1E8-4D8E-89BD-2548C45A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937-E9FD-406A-BB4C-7F11B7E8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7B4-524D-4CBD-8B83-82C520D2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BF5-D879-4367-B30E-BB84FC02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A1B-41D8-4B29-87D7-E9EFD488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DDA-8930-449E-8EBD-371B4104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CDA-24B5-4F95-B0FA-634982E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25C-AA5F-4298-A1A5-8AF719AA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112-2C51-4BC9-BA54-09F08581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B35-7E6E-4BEA-BE40-3105FB5D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93A-B918-4A9B-907C-6F7F11B1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7A5-9B74-4F8A-A925-A9BDA908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87A3-2DBC-4A90-8DF9-C193B6F40E3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988B-E52C-4387-8B69-37A00E050093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U veileder om forklaring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81D-29E9-4536-AA4E-6A4BA0AF45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AAA36-0CFD-46E2-AC94-53071D2F96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som hører sin makker gi en forklaring som avviker fra egen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forståelse av makkeravtalen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,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 pålagt å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korrigere forklaringen. 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i rett tid)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Korreksjon kan unnlates bare når spilleren blir oppmerksom på at han selv etter avtalen har meldt feil og han kan godtgjøre dette på stede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Når makkeravtalen ikke kan dokumenteres så er regelen at melderens forståelse av avtalen er den rette og at forklaringen er fe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00F-400E-4084-A731-2170C0B6A0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7F9EC-365E-459A-A92E-7F9C19DE1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990000"/>
                </a:solidFill>
                <a:latin typeface="Arial"/>
                <a:ea typeface="Arial"/>
              </a:rPr>
              <a:t>§ 75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  <a:ea typeface="Arial"/>
              </a:rPr>
              <a:t>A SPESIELLE MAKKERAVTALER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Spesielle makkeravtaler må være fullstendig og ubetinget tilgjengelige for motstanderne (se </a:t>
            </a:r>
            <a:r>
              <a:rPr b="0" lang="nb-NO" sz="3200" spc="-1" strike="noStrike">
                <a:solidFill>
                  <a:srgbClr val="990000"/>
                </a:solidFill>
                <a:latin typeface="Arial"/>
                <a:ea typeface="Arial"/>
              </a:rPr>
              <a:t>§ 40</a:t>
            </a: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),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uansett om de er klart avtal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eller underforstått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Den informasjon som formidles til makker gjennom slike avtaler må kun formidles gjennom meldinger, spill og betingelsene for den aktuelle giv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4B8-2AB6-499A-AADB-6B78508264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927FA-07C5-4122-8E28-5575AACAF7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har ret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 se på motpartens systemk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be om å få forklart meldinger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når det er hans tur til å melde eller spille.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§20, 40)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pørsmålet bør holdes i en nøytral form som ikke formidler urettmessig informasjon til makker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Det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uetisk å spørre for å henlede makkers oppmerksomhet på noe en selv vet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tte kan straffes som urettmessig informasjon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fra makker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CFE-EA93-41B1-9196-20B29909FB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62B80-EE58-4B35-BE40-71F8EF851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a skal forkla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skal innholde opplysning om hva meldinger betyr etter parets makkeravtale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n makkeravtale omfatter ikke bare eksplisitt avtalte situasjon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n også felles forståelse opparbeidet gjennom makkerskap eller tilhold i samme miljø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rsom det ikke er noen makkeravtale, har motparten bare krav på informasjon om dett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Vel etablerte par bør være varsom</a:t>
            </a: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e</a:t>
            </a: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 med å påberope seg ikke-avtal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rsom en spiller forsøker å forklare en melding når det ikke er noen avtale,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å er det lett å komme i skade for å gi feil forklaring til motparten og samtidig urettmessig informasjon til makk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AD5-BF9E-4EE5-AE45-2DA11A28D9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0B64F-67F1-4573-8133-72AB40B322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ordan forklar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bør fokusere på hva makkers melding viser at han </a:t>
            </a:r>
            <a:r>
              <a:rPr b="1" i="1" lang="en-GB" sz="2400" spc="-1" strike="noStrike">
                <a:solidFill>
                  <a:srgbClr val="990000"/>
                </a:solidFill>
                <a:latin typeface="Times New Roman"/>
              </a:rPr>
              <a:t>har</a:t>
            </a:r>
            <a:r>
              <a:rPr b="0" i="1" lang="en-GB" sz="24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Til dette er det  mest hensiktsmessig å bruk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ll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for fargelengd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honnørpoeng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pillestikk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p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ller andre størrelser som inngår i systemdefinisjonen, avtalen eller deres felles forståels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t er lite opplysende å bruke ord som</a:t>
            </a:r>
            <a:r>
              <a:rPr b="0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har åpn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sperrebeton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 eller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spillemeld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t er også viktig at forklaringen i form viser respekt for at motparten kanskje har en annen sjargong eller kommer fra et bridgemiljø med et annet tankesett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874-FAED-4DCD-AE81-065437C413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2B2E6-5E73-4DE2-8BE6-739F3F6F12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OM HUK konvensjon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e skal være mest mulig veldefinerte, F.eks 1♥ - D - 1♠ aler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 sier ingenting om sparfargen, og meldingen er krav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orsvarsforslaget skal være på vedlegget til systemkort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tspillerne kan studere forsvaret under hele meldingsforløp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et er ikke nok å si hvilken gruppe HUK meldingen tilhører)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632-5E4B-4942-AABF-232AC8793E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9A766-A4AC-473B-9ABE-8136A2D297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§20 F1 sier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var på spørsmål om makkeravtaler bør normalt gis av makkeren til den spilleren som har avgitt den aktuelle meldingen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vis denne spilleren har glemt avtalen så kan TL ta spilleren bort fra bordet og la den som har avgitt meldingen forklare makkeravtalen.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(Han har i så fall ingen plikt til å avsløre en bløff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erk at selv opplysningen om glemt avtale kan bli dømt som 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UI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A97-72CE-4BC3-8DD5-367D52CE9A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346BB-6E34-4BFC-A2D4-2FF93F7C6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990000"/>
                </a:solidFill>
                <a:latin typeface="Times New Roman"/>
              </a:rPr>
              <a:t>Når det ikke er noen makkeravta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klare krav til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Makkerpar med 2-300 spill bak seg har ”avtaler” om det aller mes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standerne har bare krav på opplysning om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alltid UI til makker å si hva en tror det 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parten har ikke rett til å vite hvilken tolkning som er grunnlaget for svarerens senere meldinger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759-F039-4E08-891D-BBA5531DE2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AE7B8-E999-48BB-AEDA-04E7FEC52A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Spillerne har plikt til å korrigere makkers feil forklar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Spillefører og blindeman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vsluttende pass og før åpningsutspillet blir snud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Motspill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t spillet er slut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D8C-1718-4C3D-A761-FF35D93C55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936A1-F252-4CB6-919B-71A6AB69DC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54:29Z</dcterms:created>
  <dc:creator>Per Nordland</dc:creator>
  <dc:description/>
  <dc:language>en-US</dc:language>
  <cp:lastModifiedBy>Per Nordland</cp:lastModifiedBy>
  <dcterms:modified xsi:type="dcterms:W3CDTF">2002-05-17T19:40:10Z</dcterms:modified>
  <cp:revision>5</cp:revision>
  <dc:subject/>
  <dc:title>LU veileder om forklaringer</dc:title>
</cp:coreProperties>
</file>